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29.wmf" ContentType="image/x-wmf"/>
  <Override PartName="/ppt/media/image17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690C-2695-4164-A440-B6B6CB180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DE7E-3657-433E-B7CF-18E312F5A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15E8-57AF-40D9-B90A-592AA4A3A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8BA3-58FF-4F68-A76A-79529DD52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8DD24-E9DC-4CCE-98FA-3E246C7942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4B233-A3B7-44B9-B7F3-D30E1411BB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70CE9-A3DC-4B70-B1D2-0CA8D82D58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324D6-05CD-4FCC-8933-DA73BBC29C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E9461-DF53-45DB-AAC7-6D6DA9221C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C9191-46CD-415D-B572-B94ACF5E33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5AFB8-BFB3-455B-B00C-2BE061AF41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08DE-B157-4C00-A3B0-EFCAAB5EF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A93E4-1BBA-4AF6-8B3C-8EBB83C0A5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E4C14-9522-4272-A375-FFB5A64ED5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D787A-9F01-423E-94E2-044C1583B5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6A0AA-774C-4DDF-B25A-B3E01B32EF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DA83F-86E0-4AD8-B1A1-37DD485DD7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5391E-CE59-4F8C-AC15-30BCEFBFF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44AF-6A4D-4545-82CA-98605B394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C5DC0-EC9B-4842-BCA8-CF864D84C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9395-C452-4291-9808-EB5174065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6A98-3406-4EBE-B495-C4FF98608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0B73-3302-4F95-AD45-852357F69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11C9-A470-4155-96CA-2BF0171E0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E6972ED-D9AA-434D-94A5-EB13BB4B81F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32AD62F-C659-4F85-87D3-37C892EF86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346720" y="393840"/>
            <a:ext cx="3348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292720" y="399960"/>
            <a:ext cx="3564000" cy="540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D5B619C-B1E2-4F01-AB9A-D1F0C7B01F4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90516F0-AF86-4411-8B9C-DA598C429F5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7-07-03T08:54:52Z</dcterms:modified>
  <cp:revision>312</cp:revision>
  <dc:subject/>
  <dc:title>REGRESSION ANALYSIS</dc:title>
</cp:coreProperties>
</file>